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8C0D-07D9-4E3C-8D09-89C4CBBF0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8EF5-00E4-4863-89FA-AABB63871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B155D7-2996-458F-8AAE-CE8C9E586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4304A9-0E22-417E-87C6-96DFAC6E2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6E95B6-960A-4FA5-8D7C-E1C80D265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76B629-C8BA-4D41-82E1-1348C428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FA9B47-753D-4EA7-8420-F0A2057F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F6E463-E360-4DF2-9ACD-3177CF78B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2A1BD5-EB39-4692-BB18-E8892DB4A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01B793-6F9C-46CD-BB8D-3A1A3FAA4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92DC96-D317-41CB-834A-2625BDFC5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1502FB-3F16-49D9-8217-08BAD0AE5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161D-1F71-4C1B-909D-7922A3175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E1E13A-7206-48B9-9521-A5BDC3236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C20D84-937C-4C1C-ACDA-5CA818924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32629A-DD56-48FA-99B9-50ED75B6B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8F92FE-53A6-49FE-86F5-330CEF860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1DF1F4-DC7F-4B63-AEB5-A573A6A1A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A53280-73BB-478B-BF3A-9C296CD37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AABD71-C4F5-4475-B34A-902A03A9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19C4D1-DB94-40F5-9A3B-B68373E82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6DA5B2-D3F7-4B44-BB81-C4E9FD091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0C7345-2EA5-49E3-8654-AE793CEEF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06E3-F538-4778-9D6D-F3CDF641C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DC5E23-AE9D-4117-BBBF-45001DF6F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568180-2213-4FB4-8114-6B400B649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BCA4E0-3CC3-41F4-B129-67DACE619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23D9D4-C43A-43ED-87D2-9AE110D5E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E8E9F7-331C-4098-A4A4-0DBC35DB0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27F24D-94FA-4ECD-A9FF-B75E7A43C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25DFFB-D74F-4642-85BB-77EA3A3D8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CE5425-599A-4328-8303-635F30D3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5F24F1-B43B-4ED7-A68F-15F6529C8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337792-5179-4EDA-B66B-08D02D60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70C30-D943-4AC1-87A8-AAEDC49E4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A08DC7-ED7D-4D7D-8FB7-754C4F8A2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F36566-D55E-498E-90D3-40306FBC3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07EC69-A373-4FB7-9FFC-8E4F723D0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E3E64D-D9C8-4B60-B388-9D9638BE8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1730AD-19CB-405A-AB2C-3666C951D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F88952-9EA4-49FA-84A3-AE1AB570E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59C2A1-889D-446C-B99C-FC1561CF2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D35C6F-3447-46B9-A293-79E403B0B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6F2169-34D3-4AC9-BF92-03B257560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8E4E78-89AE-4F43-8E13-7D4DC4C1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2CA6F-6F2F-44B3-BE39-530CE2741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0C1116-5181-4E4A-8818-1D633C0B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A3370B-CA47-4F65-992D-30626426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0FD527-6ABA-4CB2-ADE8-EB253D9D6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9F94FA-3CE1-44C4-926D-8936977AF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12FEA4-C2F0-463B-87E9-CD30C5CCF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A6A1D7-694D-40F2-92AC-40D75C690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D50D29-703B-4C93-AC7B-C1990CDC2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1620B7-C7BC-457E-8AC3-EC98C0EF2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37685C-D9F7-43B9-A1A0-81ED3CC0C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0D2951-6793-4816-9357-3C9E7ECB6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C930B-B65F-4AAC-93E5-742F4B217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5114EA-F760-4F3D-93A8-3B8F1E490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242BBA-60DB-47CF-88A8-B2D9844C7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6834D2-BA12-4C7D-8B64-CCDF1785D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F1E7F0-89E4-4951-A9E1-07C0B5B96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078CDC-4B38-46B5-9E05-7F76E1758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A4590E-B376-4A01-88FD-3386F5521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D0CD00-E72A-481D-88A6-97E097E27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3B574C-5749-46E7-86B8-697A35F48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5E72B1-3B4F-44EA-9FB9-2E5383DE0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458B80-D8DE-4FD6-847F-E652F214E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61D44-CE56-4481-9E1F-D6A49D86F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9372A9-BA40-4C4B-B76A-278231ECB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B0E329-DF8E-45A1-8F3A-2ADCE467F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2EC3B8-D974-4215-B1BC-249479137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D8A622-E410-4BC8-AD26-F020C20D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76F401-21F8-490D-8390-AB500059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063D9F-6B74-4936-9254-8ABD619C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0A2B98-3434-4CED-9235-F87F1FE65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BA5B64-D8A9-4347-87BA-24FB0363A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83C6B5-11D3-46A5-AC23-420476B2E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6EA411-D72F-4F7F-9E0C-EDD82B2C2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946DC-C517-4A63-969C-2CCC9CD53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5E9B6B-B780-4542-BC6F-40C5EFD43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6C5C06-6C1B-47A9-95B2-EFAB82D6A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C39B9A-C533-4535-BAFC-8FD9BF536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C86B0A-7328-4CEA-8461-290599A60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E6D2E1-5EFC-47BC-A1AD-503A8CDC6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8E6EDF-5AA3-43C4-8118-0FA10F28F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3ECB8E-24FD-427F-A1DC-E9CB1CA2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2F48D6-C038-40BA-AEA3-7B3DDB14F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E989EA-9019-400B-ACCE-FB3C77928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DDB3A1-FE1C-4E88-8178-0101B92E2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D5BB0-29B0-4801-B3D9-6370C4F48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D78A50-6932-4D5D-8198-82286ADE4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BAAEB7-A3AA-4678-8F3E-3D88ABCA0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5B3EE2-0BAA-4824-89BF-025ACDB91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AE1D60-4D16-4E38-B280-C7E4F6C07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E613A0-A8DE-4DF2-A304-B3E10876A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F67CDF-EC45-4282-B442-F74E78892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8A9670-17CC-4706-AA65-11DA8B8D1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ADB2DC-5A09-4AB8-9817-AB1BE918C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3B71AE-50EB-4CA1-8D40-384D1DBBB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C46351-9BCC-487E-AEA2-B666E061B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5DCEA-59B6-486D-BDCD-4A6501D5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951660-084C-4499-9F61-AFB57633A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33D384-4659-496B-8CF8-F453A6F09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89BE28-37EF-4058-9192-E00E36A7E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E57B10-9F30-41CB-B2A8-7ABA25B5D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69E4D9-15F3-46E8-A3B1-B95AEA29E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3FCFA8-8A3C-4F86-8BB0-D4332BCD8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ADB43C-93D7-4827-9F77-EFE3D398F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494D02-87B2-4CD8-B5C0-69209B0C9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0C5DF2-13D2-4790-B24A-76976E0A0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81E563-EDF5-4D43-8E79-F6669A788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05A8-D025-4A4A-8096-D14F22A5E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20F95-865F-4F39-B8DB-525E5B7F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FC0192-3458-4873-AA99-BC849180B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63C420-7CAA-46F7-B713-094FFDBB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3FDCBE-22D8-4FC7-9BB9-1643F5B3C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713B4C-DDA2-4D13-A8E2-2228DBD93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C2007C-AEA9-4992-9702-A5879545B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D01E10-DDFB-4401-A43E-AA566D632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B60C54-F879-4852-9821-0E0A322B4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72F183-91D4-47AB-9867-F4D8C5CA0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AC711E-FC83-4BCA-A22E-F576A5C71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5701D8-E44B-453D-813B-1A5EF105E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4242B-FB29-4D65-ADFC-26917882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02F6A5-6E7D-48AB-B0F4-B214B916C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C2357B-E09F-4C52-9B54-F83743E4A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C603AE-E1A6-4568-93BB-BB8F68B6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EF0EC0-C0B8-4FE8-BA61-19D587A63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FDA4A6-DEE6-4533-B602-020FFE32E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526E5F-356A-4111-ADF5-58EBD2605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3A760D-179C-4546-B8C8-D38ACECEB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FFFAAE-504B-4FD6-8482-CBFB31362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9FCE20-5513-4E67-8EF7-AEBB4A610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591621-1D9A-4010-9202-22287FBA0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B47F4-4651-44CE-873D-546866D23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E1D8C2-C677-4ADF-BC18-DCE181C9F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58F907-2D0A-4BB9-80A7-DEC72A42B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729102-3323-424E-8492-B1FCB7F71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B06EFA-1179-4C98-8AAD-4915543F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EAA626-A007-4023-B852-0B55F898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8AE9A2-EF0D-44C4-9C82-F1B3F210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903DFE-C106-44BB-82D2-40275C78A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CA7E4B-0CE2-4B8A-9804-E6755B044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541D23-7D29-4083-AFA9-5611E5067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E6E168-8846-456D-9B19-69FED752A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DC639-3119-4165-9F62-C7C7BF746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D8759C-FAA7-4353-AA23-3466DC65E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3F83C1-C519-4255-A6EF-B5207AD5A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0ED9A4-D3D5-4657-83B5-D9846F5B7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50A37C-EFF7-406C-AAF4-79D16474E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DA4178-8A25-4D42-94F6-C0365F56F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7C7C0F-E8CE-47C2-A68F-10B1555A1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763BD6-BEBB-4B52-882C-6B0CDE03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8ABEA4-45CB-42EA-B7B7-3C3396AF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0DF47E-90C4-4A7B-BBCF-402A84D42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513D74-31FC-4E40-A54C-67E21AF92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61547-9372-4DCA-A930-4038A9765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023BFA-C1BF-449C-83B7-211AC5AEF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B84A00-47CF-4A6A-A066-1499E9BF7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8DFF20-1EA6-4516-A67E-BB05F660E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417D43-6033-4131-9C04-9F4E3BE03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A2D4692-921F-4D7A-A1AB-DB343957C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0FA699-E369-4E64-9593-7536E970F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76A70E-4BB2-487B-9B49-A7D3CB5A2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A32DE7-E58B-4D6A-B24F-875B29186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1E54E0-A315-4C7D-8B5F-00324777F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0C5574-4686-4D99-991A-4CCB73CB4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65B9D-F73C-4069-88AF-CD4E82E5E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875003-06B3-49BD-B35C-25644DF48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568C6D-3745-4376-BE6C-86EDFAF14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50CD6F-5E06-4448-B052-D92ECF52B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119A3-26FD-451F-A243-03169595F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AAAC9-7015-402E-BC9F-E4B6578EB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69152-0D8D-4929-8F90-1B04F7B3D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5730E-D9FF-45C1-A5E3-D26E00960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E213-7819-4DE2-A447-2C73814F6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1F056-B5A4-491A-B378-E6C94BDBB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A765E-ED16-411A-990C-5229B59D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70805-896A-453C-B35B-CA9B9A7E9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40262-10FC-4E45-B34D-C2654D9D4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D4F7A-4737-49D6-831A-6761B7636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E853A-8E06-4C3E-9E51-D3CBA9007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04554-0EAC-441E-A8DA-260752642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2C057-3DB0-467F-91D4-50BF8CE5F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286BB-2319-4FB7-97A2-60A75D600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09B1D-7694-430B-B080-5339B1AD3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B0D8-5AF4-487F-B2C6-F25D6AE67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FA18E-8774-49C2-AE7D-D908F57F4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B323D-BE46-471B-8588-522A080A1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2574C-2922-40F5-9B24-C94F470F0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000CE-5F02-4768-B27C-537E09562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82B56-4F31-41F0-A212-1A0D96C63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AC6FA-C88B-4E91-B889-FEC59505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76463-F90B-4E90-B3FA-1106F5E41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4514A-A64B-4808-BFC5-B9E9EC8C7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061A1-4C20-45E9-9E71-36B210E11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E96195-AFCC-4D7C-8343-6D82622D4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14B5-AB53-4188-A8F7-D683A8E9A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357B35-8E0A-41D1-A41F-ECF0AB859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AE906-181E-442B-BA5F-743C14682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B20D5-A478-47D9-B7F8-F6B6EC9D8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FE4F1-64F2-4B83-B7FB-58CBE20D2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D38AE-4268-450F-B134-37C491AA1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9EA998-D1DB-42A4-BD57-53D666477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55CD7-D8CB-4B9D-8F78-5BA9D58D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1630BC-62C0-43ED-B169-2F5F3C02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B71715-AF47-4561-A0C4-ECC5F51E3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3A484-42E2-4754-AEEB-81316C83E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16DC-59A1-49C5-930A-2992C5788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C4B10-7C94-43D8-8494-7401DCDC6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328068-6507-4C09-B561-0BD63F5D5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B862BE-9379-4FCA-8681-3D4B6AFE0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503E27-D924-409C-BA15-66F9A2336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2B1E01-AEFF-4BAE-8FBB-D87A6E808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06B224-5491-4FCB-B156-D8D1F7F99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81EBD8-C4E8-4C15-B2E4-9D777F481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4654EF-1295-4B98-87F5-855EA61A8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935A36-801B-4251-A008-669D04996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C5F4F4-9E72-43CA-86C6-A0D88DE40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5AAE-D92E-4B21-AFC1-7CF8ADEF1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20F56A-DCEC-48C1-90AB-D5E710C46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20B3B4-4E9A-4F53-BDD9-867ADA746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C0B1AE-3FFF-4396-B35A-FFB4DEB87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6CD9D7-4950-4EE0-9CCB-28E9562C6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4FCDA5-43D7-4068-BD1B-F7C47C624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D2B6BB-E57D-47FE-91B3-6D67DCE68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B7F8EF-C100-4C94-B86E-AF5E11EC0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34AB24-CA98-4893-95DD-A9DDA8596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511430-8F6D-4547-9366-F4E8C24E5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6FC7F8-9534-49D5-9FB0-CC2530C0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F7C8-E671-4300-A218-CEE7A8EF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9ADADE-289E-46DC-9C98-94CDB3C63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F11F4F-877F-40BE-9184-5C82EE701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64090A-1595-4061-BFDC-20602B752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6D5E4E-F396-4DD2-8333-87E2EDD66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318B95-C64B-4698-8651-5D17B900C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55F433-DE43-410D-8EE3-CF7F484D4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CF4EA0-9071-4FA3-AB48-D7C7FD5ED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7E422F-CBA4-415C-80D8-2D5715269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B72215-FF11-4627-B03B-867C56E6B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BA2714-1B63-4B4F-8923-41F8B1FE7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4B0E-1557-4F13-A831-CCCE07A98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E9AE29-57A8-4B43-AFA9-95AF505A5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939A9A-9FF0-42B1-9A55-8205884E2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4A7536-1369-4A5E-9E6E-AA2C1A7F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B43C72-95ED-4B25-8817-D6161BD5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B0544E-6E9F-480A-AC68-280F9372D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94F071-5834-41E5-BFF1-E8DB6A5E7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810881-03E3-4F8F-95A9-CF92A2891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6FD5D5-CA91-4E17-BFEB-CC54DE872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E2EF71-1381-4483-8643-0FC761CD0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06AA55-CA17-47B2-B943-05D9F72C7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740D3-30A1-4F7C-BF59-D38E76D996C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425F6-0173-4D38-8D46-D8907151B40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AEB17-CE3F-43EB-96A5-300D29787F7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3AC1B-38AE-437B-83B1-B6B61A1419F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0824F-43F4-4502-810C-542CD184A79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94A0B-E18D-4C5E-B671-4A46E258D10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1AB80-B46D-4E3F-B30E-30A145F549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C7B14-B524-48DE-9624-C2C708486B0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CE7E3-7F4D-477F-BDE7-82828272A44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BA95F-BCE3-4D32-A958-3C7F35DECB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C8E19-CE57-480F-AC65-ED653F32484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C17E0-B7E1-4921-8265-1DD29A6043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D882A-C2E8-41D3-B693-303A422A898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921BD-063D-4AF3-9EDB-B70E4BD1DC6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9E28F-C0FC-4D42-8D18-03A5F9CDCE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C1D8E-FBB3-422C-A350-D0DFE8A31AB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E09F4-3CB6-4BB2-8EA3-9CC8E0CF618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862C8-249F-4C84-BFC3-E7DFCBD716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723AD-9FC6-469F-B303-0432DB3C12E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F14A1-7CA7-4F84-9F93-61316783D07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7530A-1BA1-434A-A365-3858DD0BE2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9DFF8-EE31-409F-9389-10E82B244A0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12136-D00C-43AF-A4E1-6907C9CAC55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A70F2-909A-4EBF-949B-B4F41E0DF9B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8F932-AB97-4FA8-9845-088671F98DC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FFD7A-9D83-478D-84F4-4688F2B400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01744-4A66-4E8C-84BA-0ED621467B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6FEB2-A577-48EB-B0A2-E69020A54DF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1974600"/>
            <a:ext cx="0" cy="282708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8BEF7-5537-42D3-A9CE-06F0EB15FB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FF333-A1A5-490B-95EB-AE5D701A469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B0B31-F3EE-474D-9007-247E120DCC8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8092E-C98B-417B-B19B-FC1CE20AAC1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AF264-2D99-48C4-9B44-34FF52ECB5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4D613-B8C8-47C2-A900-A049C891C6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603E8-CF7B-44ED-A62D-653F551DD70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F499F-ABA4-47F5-B73B-23AB763F452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2300A-51CC-42C4-A2DB-6508456CD3A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86BDB-069D-460E-BBBA-1821A0F5FF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C3CAE-F122-4D1B-8FFC-8421304E924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EB078-32D8-4DD0-871A-F87696F0278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257560" y="3029040"/>
            <a:ext cx="462888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99880" y="974880"/>
            <a:ext cx="8544240" cy="5838840"/>
          </a:xfrm>
          <a:prstGeom prst="rect">
            <a:avLst/>
          </a:prstGeom>
          <a:ln w="0">
            <a:noFill/>
          </a:ln>
        </p:spPr>
      </p:pic>
      <p:pic>
        <p:nvPicPr>
          <p:cNvPr id="923" name="图片 60429" descr=""/>
          <p:cNvPicPr/>
          <p:nvPr/>
        </p:nvPicPr>
        <p:blipFill>
          <a:blip r:embed="rId2"/>
          <a:stretch/>
        </p:blipFill>
        <p:spPr>
          <a:xfrm>
            <a:off x="179280" y="66600"/>
            <a:ext cx="3506760" cy="9860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971640" y="3716280"/>
            <a:ext cx="6408720" cy="50652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971640" y="4437000"/>
            <a:ext cx="6408720" cy="50652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900000" y="5013360"/>
            <a:ext cx="6408720" cy="50652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900000" y="5734080"/>
            <a:ext cx="6408720" cy="50652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900000" y="6337440"/>
            <a:ext cx="6408720" cy="50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9" name="图片 59410" descr=""/>
          <p:cNvPicPr/>
          <p:nvPr/>
        </p:nvPicPr>
        <p:blipFill>
          <a:blip r:embed="rId1"/>
          <a:stretch/>
        </p:blipFill>
        <p:spPr>
          <a:xfrm>
            <a:off x="357120" y="195120"/>
            <a:ext cx="8429760" cy="646776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2"/>
          <a:stretch/>
        </p:blipFill>
        <p:spPr>
          <a:xfrm>
            <a:off x="755640" y="3557520"/>
            <a:ext cx="6696000" cy="50652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3"/>
          <a:stretch/>
        </p:blipFill>
        <p:spPr>
          <a:xfrm>
            <a:off x="826920" y="4292640"/>
            <a:ext cx="6696360" cy="50652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4"/>
          <a:stretch/>
        </p:blipFill>
        <p:spPr>
          <a:xfrm>
            <a:off x="900000" y="4824360"/>
            <a:ext cx="6696360" cy="50652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5"/>
          <a:stretch/>
        </p:blipFill>
        <p:spPr>
          <a:xfrm>
            <a:off x="971640" y="5530680"/>
            <a:ext cx="6696000" cy="50652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6"/>
          <a:stretch/>
        </p:blipFill>
        <p:spPr>
          <a:xfrm>
            <a:off x="900000" y="6180120"/>
            <a:ext cx="669636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5" name="图片 76801" descr=""/>
          <p:cNvPicPr/>
          <p:nvPr/>
        </p:nvPicPr>
        <p:blipFill>
          <a:blip r:embed="rId1"/>
          <a:stretch/>
        </p:blipFill>
        <p:spPr>
          <a:xfrm>
            <a:off x="333360" y="735120"/>
            <a:ext cx="8477280" cy="593388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2"/>
          <a:stretch/>
        </p:blipFill>
        <p:spPr>
          <a:xfrm>
            <a:off x="900000" y="2201760"/>
            <a:ext cx="7344000" cy="50652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3"/>
          <a:stretch/>
        </p:blipFill>
        <p:spPr>
          <a:xfrm>
            <a:off x="900000" y="2824200"/>
            <a:ext cx="7344000" cy="50652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4"/>
          <a:stretch/>
        </p:blipFill>
        <p:spPr>
          <a:xfrm>
            <a:off x="755640" y="3527280"/>
            <a:ext cx="7343640" cy="50652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5"/>
          <a:stretch/>
        </p:blipFill>
        <p:spPr>
          <a:xfrm>
            <a:off x="755640" y="4149720"/>
            <a:ext cx="7343640" cy="50652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6"/>
          <a:stretch/>
        </p:blipFill>
        <p:spPr>
          <a:xfrm>
            <a:off x="826920" y="4822920"/>
            <a:ext cx="8066160" cy="50616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7"/>
          <a:stretch/>
        </p:blipFill>
        <p:spPr>
          <a:xfrm>
            <a:off x="826920" y="5445000"/>
            <a:ext cx="8066160" cy="50652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8"/>
          <a:stretch/>
        </p:blipFill>
        <p:spPr>
          <a:xfrm>
            <a:off x="755640" y="6093000"/>
            <a:ext cx="8066160" cy="50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图片 58373" descr=""/>
          <p:cNvPicPr/>
          <p:nvPr/>
        </p:nvPicPr>
        <p:blipFill>
          <a:blip r:embed="rId1"/>
          <a:stretch/>
        </p:blipFill>
        <p:spPr>
          <a:xfrm>
            <a:off x="318960" y="993600"/>
            <a:ext cx="8506080" cy="5820120"/>
          </a:xfrm>
          <a:prstGeom prst="rect">
            <a:avLst/>
          </a:prstGeom>
          <a:ln w="0">
            <a:noFill/>
          </a:ln>
        </p:spPr>
      </p:pic>
      <p:pic>
        <p:nvPicPr>
          <p:cNvPr id="944" name="图片 58374" descr=""/>
          <p:cNvPicPr/>
          <p:nvPr/>
        </p:nvPicPr>
        <p:blipFill>
          <a:blip r:embed="rId2"/>
          <a:stretch/>
        </p:blipFill>
        <p:spPr>
          <a:xfrm>
            <a:off x="223920" y="73080"/>
            <a:ext cx="3195720" cy="87948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3"/>
          <a:stretch/>
        </p:blipFill>
        <p:spPr>
          <a:xfrm>
            <a:off x="826920" y="3357720"/>
            <a:ext cx="6481800" cy="50616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4"/>
          <a:stretch/>
        </p:blipFill>
        <p:spPr>
          <a:xfrm>
            <a:off x="900000" y="4076640"/>
            <a:ext cx="6481800" cy="50652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5"/>
          <a:stretch/>
        </p:blipFill>
        <p:spPr>
          <a:xfrm>
            <a:off x="611280" y="4870440"/>
            <a:ext cx="6481800" cy="50652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6"/>
          <a:stretch/>
        </p:blipFill>
        <p:spPr>
          <a:xfrm>
            <a:off x="684360" y="5589720"/>
            <a:ext cx="6481440" cy="50616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7"/>
          <a:stretch/>
        </p:blipFill>
        <p:spPr>
          <a:xfrm>
            <a:off x="611280" y="6308640"/>
            <a:ext cx="64818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图片 57352" descr=""/>
          <p:cNvPicPr/>
          <p:nvPr/>
        </p:nvPicPr>
        <p:blipFill>
          <a:blip r:embed="rId1"/>
          <a:stretch/>
        </p:blipFill>
        <p:spPr>
          <a:xfrm>
            <a:off x="324000" y="797040"/>
            <a:ext cx="8496000" cy="580068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2"/>
          <a:stretch/>
        </p:blipFill>
        <p:spPr>
          <a:xfrm>
            <a:off x="755640" y="3889440"/>
            <a:ext cx="6553080" cy="50652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3"/>
          <a:stretch/>
        </p:blipFill>
        <p:spPr>
          <a:xfrm>
            <a:off x="755640" y="4595760"/>
            <a:ext cx="6553080" cy="50652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4"/>
          <a:stretch/>
        </p:blipFill>
        <p:spPr>
          <a:xfrm>
            <a:off x="826920" y="5386320"/>
            <a:ext cx="6553440" cy="50652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5"/>
          <a:stretch/>
        </p:blipFill>
        <p:spPr>
          <a:xfrm>
            <a:off x="826920" y="6093000"/>
            <a:ext cx="6553440" cy="50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图片 56324" descr=""/>
          <p:cNvPicPr/>
          <p:nvPr/>
        </p:nvPicPr>
        <p:blipFill>
          <a:blip r:embed="rId1"/>
          <a:stretch/>
        </p:blipFill>
        <p:spPr>
          <a:xfrm>
            <a:off x="343080" y="801720"/>
            <a:ext cx="8458200" cy="586728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2"/>
          <a:stretch/>
        </p:blipFill>
        <p:spPr>
          <a:xfrm>
            <a:off x="684360" y="3209760"/>
            <a:ext cx="4751280" cy="50652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3"/>
          <a:stretch/>
        </p:blipFill>
        <p:spPr>
          <a:xfrm>
            <a:off x="755640" y="3933720"/>
            <a:ext cx="4751280" cy="50652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4"/>
          <a:stretch/>
        </p:blipFill>
        <p:spPr>
          <a:xfrm>
            <a:off x="755640" y="4649760"/>
            <a:ext cx="4751280" cy="50652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5"/>
          <a:stretch/>
        </p:blipFill>
        <p:spPr>
          <a:xfrm>
            <a:off x="826920" y="5373720"/>
            <a:ext cx="4751640" cy="50652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6"/>
          <a:stretch/>
        </p:blipFill>
        <p:spPr>
          <a:xfrm>
            <a:off x="684360" y="6135840"/>
            <a:ext cx="6480000" cy="50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图片 55300" descr=""/>
          <p:cNvPicPr/>
          <p:nvPr/>
        </p:nvPicPr>
        <p:blipFill>
          <a:blip r:embed="rId1"/>
          <a:stretch/>
        </p:blipFill>
        <p:spPr>
          <a:xfrm>
            <a:off x="752400" y="1268280"/>
            <a:ext cx="7639200" cy="2009880"/>
          </a:xfrm>
          <a:prstGeom prst="rect">
            <a:avLst/>
          </a:prstGeom>
          <a:ln w="0">
            <a:noFill/>
          </a:ln>
        </p:spPr>
      </p:pic>
      <p:pic>
        <p:nvPicPr>
          <p:cNvPr id="962" name="图片 55301" descr=""/>
          <p:cNvPicPr/>
          <p:nvPr/>
        </p:nvPicPr>
        <p:blipFill>
          <a:blip r:embed="rId2"/>
          <a:stretch/>
        </p:blipFill>
        <p:spPr>
          <a:xfrm>
            <a:off x="633240" y="3500280"/>
            <a:ext cx="7877520" cy="211464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3"/>
          <a:stretch/>
        </p:blipFill>
        <p:spPr>
          <a:xfrm>
            <a:off x="4500720" y="1773360"/>
            <a:ext cx="647640" cy="50616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4"/>
          <a:stretch/>
        </p:blipFill>
        <p:spPr>
          <a:xfrm>
            <a:off x="7667640" y="1700280"/>
            <a:ext cx="647640" cy="50652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5"/>
          <a:stretch/>
        </p:blipFill>
        <p:spPr>
          <a:xfrm>
            <a:off x="4140360" y="2421000"/>
            <a:ext cx="647640" cy="50652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6"/>
          <a:stretch/>
        </p:blipFill>
        <p:spPr>
          <a:xfrm>
            <a:off x="7667640" y="2421000"/>
            <a:ext cx="647640" cy="50652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7"/>
          <a:stretch/>
        </p:blipFill>
        <p:spPr>
          <a:xfrm>
            <a:off x="2340000" y="3933720"/>
            <a:ext cx="647640" cy="50652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8"/>
          <a:stretch/>
        </p:blipFill>
        <p:spPr>
          <a:xfrm>
            <a:off x="5133960" y="3933720"/>
            <a:ext cx="647640" cy="50652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9"/>
          <a:stretch/>
        </p:blipFill>
        <p:spPr>
          <a:xfrm>
            <a:off x="7885080" y="3948120"/>
            <a:ext cx="647640" cy="50652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10"/>
          <a:stretch/>
        </p:blipFill>
        <p:spPr>
          <a:xfrm>
            <a:off x="1922400" y="4653000"/>
            <a:ext cx="647640" cy="50652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11"/>
          <a:stretch/>
        </p:blipFill>
        <p:spPr>
          <a:xfrm>
            <a:off x="5321160" y="4653000"/>
            <a:ext cx="648000" cy="50652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12"/>
          <a:stretch/>
        </p:blipFill>
        <p:spPr>
          <a:xfrm>
            <a:off x="7927920" y="4653000"/>
            <a:ext cx="64764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7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6T07:59:10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